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D3764-5345-40D2-A046-162820D9B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E2FB-D40E-4D0C-972B-9938A592C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E7321-EB4D-4949-9AA5-7C92F8130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C386C-5E18-4575-AB6A-516A20A32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5637A-7A86-46A0-B516-36325EFA4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899F-43A0-43CA-94E7-6B94ED549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D848A-2FAD-4D53-A666-C63463A8F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74338-21EA-48A6-8195-7C93997F7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23C04-CADF-495B-BE39-C2B697F60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E3C78-249E-460C-81BC-3F34E6482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1817B-0AEF-4A9E-BEC7-E1CEFD732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BD66-EE65-49FF-9B58-699B51AC5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8DC6-BF4E-4774-96B4-C87C1FDF9E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nning + Mus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505"/>
                </a:solidFill>
                <a:latin typeface="Arial"/>
              </a:rPr>
              <a:t>By Jos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 Research Ques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505"/>
                </a:solidFill>
                <a:latin typeface="Arial"/>
              </a:rPr>
              <a:t>Does running with music help people feel less t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y Hypothesi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0505"/>
                </a:solidFill>
                <a:latin typeface="Arial"/>
              </a:rPr>
              <a:t>People feel less tired when running with mus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im of Experimen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505"/>
                </a:solidFill>
                <a:latin typeface="Arial"/>
              </a:rPr>
              <a:t>I hope to achieve what kinds of music helps people feel less tired when running and how and in which way does it help. I hope to give beginners which kinds of music to pick and allow them to feel less t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ep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505"/>
                </a:solidFill>
                <a:latin typeface="Arial"/>
              </a:rPr>
              <a:t>I would have a female candidate of age 35-45 to run a distance 3.6 kilometers while listening to different choices of music, they are Christian songs, slow, fast, pop and classical. I will also have no music as a choice of ‘music’ for a contr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505"/>
                </a:solidFill>
                <a:latin typeface="Arial"/>
              </a:rPr>
              <a:t>    </a:t>
            </a:r>
            <a:r>
              <a:rPr b="1" lang="en-US" sz="2400" spc="-1" strike="noStrike">
                <a:solidFill>
                  <a:srgbClr val="ff0505"/>
                </a:solidFill>
                <a:latin typeface="Arial"/>
              </a:rPr>
              <a:t>Here is my tiredness me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505"/>
                </a:solidFill>
                <a:latin typeface="Arial"/>
              </a:rPr>
              <a:t>    </a:t>
            </a:r>
            <a:r>
              <a:rPr b="1" lang="en-US" sz="2400" spc="-1" strike="noStrike">
                <a:solidFill>
                  <a:srgbClr val="ff0505"/>
                </a:solidFill>
                <a:latin typeface="Arial"/>
              </a:rPr>
              <a:t>1(not at all tired)   2(not very tired)   3(just tired)  4(dog-tired)   5(extremely tired, going to di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505"/>
                </a:solidFill>
                <a:latin typeface="Arial"/>
              </a:rPr>
              <a:t>    </a:t>
            </a:r>
            <a:r>
              <a:rPr b="1" lang="en-US" sz="2400" spc="-1" strike="noStrike">
                <a:solidFill>
                  <a:srgbClr val="ff0505"/>
                </a:solidFill>
                <a:latin typeface="Arial"/>
              </a:rPr>
              <a:t>Then I would, record the candidate’s feeling in a char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of Experiment</a:t>
            </a:r>
            <a:endParaRPr b="0" lang="en-US" sz="4400" spc="-1" strike="noStrike">
              <a:solidFill>
                <a:srgbClr val="000000"/>
              </a:solidFill>
              <a:latin typeface="Arial"/>
            </a:endParaRPr>
          </a:p>
        </p:txBody>
      </p:sp>
      <p:graphicFrame>
        <p:nvGraphicFramePr>
          <p:cNvPr id="52" name=""/>
          <p:cNvGraphicFramePr/>
          <p:nvPr/>
        </p:nvGraphicFramePr>
        <p:xfrm>
          <a:off x="304920" y="1090440"/>
          <a:ext cx="8610120" cy="5767560"/>
        </p:xfrm>
        <a:graphic>
          <a:graphicData uri="http://schemas.openxmlformats.org/drawingml/2006/table">
            <a:tbl>
              <a:tblPr/>
              <a:tblGrid>
                <a:gridCol w="2152440"/>
                <a:gridCol w="2152440"/>
                <a:gridCol w="2152800"/>
                <a:gridCol w="2152440"/>
              </a:tblGrid>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505"/>
                          </a:solidFill>
                          <a:latin typeface="Arial"/>
                          <a:ea typeface="宋体"/>
                        </a:rPr>
                        <a:t>Results of my Experi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Song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Type of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Tiredn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Before: Af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Duration of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minu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505"/>
                          </a:solidFill>
                          <a:latin typeface="Arial"/>
                          <a:ea typeface="宋体"/>
                        </a:rPr>
                        <a:t>Date of Ru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Running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Running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Running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1/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Fast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7/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Fast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5/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Fast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Slow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1/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Slow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8/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Slow Song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5/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P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4/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P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Po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8/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Classic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9/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Classic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Classic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0/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No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1/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No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8/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No Mus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4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505"/>
                          </a:solidFill>
                          <a:latin typeface="Arial"/>
                          <a:ea typeface="宋体"/>
                        </a:rPr>
                        <a:t>22/6/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
          <p:cNvSpPr/>
          <p:nvPr/>
        </p:nvSpPr>
        <p:spPr>
          <a:xfrm>
            <a:off x="0" y="658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si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505"/>
                </a:solidFill>
                <a:latin typeface="Arial"/>
              </a:rPr>
              <a:t>There is a pattern between the duration of songs and type of run for example, when using fast music, the run is faster than usual. The difference between the duration of run using the same type of song have a range of 5 minu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2362320" y="2590920"/>
            <a:ext cx="4114800" cy="1295280"/>
          </a:xfrm>
          <a:prstGeom prst="rect">
            <a:avLst/>
          </a:prstGeom>
        </p:spPr>
        <p:txBody>
          <a:bodyPr wrap="none" lIns="90000" rIns="90000" tIns="46800" bIns="46800" anchor="t" anchorCtr="1">
            <a:prstTxWarp prst="textPlain">
              <a:avLst>
                <a:gd name="adj" fmla="val 45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ANK YOU</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9T03:19:00Z</dcterms:created>
  <dc:creator>Josh</dc:creator>
  <dc:description/>
  <dc:language>en-US</dc:language>
  <cp:lastModifiedBy>Josh</cp:lastModifiedBy>
  <dcterms:modified xsi:type="dcterms:W3CDTF">2010-08-29T03:42:54Z</dcterms:modified>
  <cp:revision>2</cp:revision>
  <dc:subject/>
  <dc:title>Running + Music</dc:title>
</cp:coreProperties>
</file>